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5A7-9D15-4869-B0E7-8918E3F6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FAE-D4F0-455D-B701-43691082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872-6456-484A-8097-7CDE3D17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092-01E6-4A79-BAA5-3FB1EC62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C7C0-8553-4782-8FFD-6097D05D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251B-1AEF-45E3-8C4E-08255CBA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55D7-83D0-435A-8003-00EAB8A5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4C6F-76FC-4995-814C-9417D26D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3CAD-8426-4FF9-8767-2DCF10E0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FF5E-A642-4404-9684-C96EB17B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A624-8FC7-42A9-A08D-C7D8FF17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E4D-F5D8-414F-859E-2BB09817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D5CF-5788-4024-8128-EFEED073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384B-E223-49EA-9C4F-86320119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E8F1-69D4-44A7-B123-B83EAC14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AAE3-D633-45F9-BB4F-9031F508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D29E-5A62-4125-837A-591BB5E5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73CB-5D25-48E3-BCD9-320B749F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BDDB-2F98-4F55-BAFC-82AD6723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A846-3E51-4BC6-BB0B-46757FD2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FD69-043B-4BB8-A0AE-FB085E72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63DC-9DAF-4E1F-BB26-72CB62F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A41-6791-43F5-AE7B-05728D2D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8250-5B6B-4DA7-B11A-FF862FFD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C5C1-A35E-4E55-88AD-85435312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142E-FAD2-4D52-A1D3-76088E9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A03A-C5D2-4EFE-BDE7-37B21E4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197B-B851-497D-82D5-033ADA87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9C23D-2DBB-480C-B639-74622901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11A2-9FBF-4879-B7E8-E6A433FF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9BD-A520-4CA1-82E0-23CECC36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68F-5159-4236-BA75-DA5F6468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896-8EB3-4A77-AFC9-8D4861AA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624-0030-400F-83B1-FC7A59C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512-1BCB-40EB-B192-8046D4E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241-D6FE-4AB7-BFB2-3EC270F1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2F1-3F6F-4EB4-90C6-7BCF19945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8034-76FB-4D87-B1E4-AC5E03F0D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9ED-B2E7-47E2-BEB7-29EEEA00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360" y="2349360"/>
            <a:ext cx="7143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ускултација срчаних тонова</a:t>
            </a:r>
            <a:br>
              <a:rPr sz="3200"/>
            </a:br>
            <a:br>
              <a:rPr sz="20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врђивање квалитета пулса</a:t>
            </a:r>
            <a:br>
              <a:rPr sz="2800"/>
            </a:b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рење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1640" y="5000400"/>
            <a:ext cx="4321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095600" y="609300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ЖБ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34920" y="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ултет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цинск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 нау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 Крагујев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Е СТРУКОВНЕ СТУДИЈ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чани тонови се најбоље чују на одређеним тачкама грудног коша где се њихов интензитет најбоље преноси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ускултацијске 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00160" y="1267920"/>
            <a:ext cx="7143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ви тон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митралн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ушћ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5. леви међуребарни простор на 1cm медијално од медиоклавикуларне линије, тј. изнад ictus cordis–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трикуспидн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ушћ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у нивоу споја 4. десног ребра са стернумом или на бази processus xiphoideus–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руги тон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са аортног ушћа – 2. десни међуребарни простор парастерналн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са ушћа плућне артерије – 2. леви међуребарни простор уз стерну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Ербова тачк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над споја 3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вог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бра са стернумом; анализа систолних и дијастолних шумов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4"/>
          <p:cNvGraphicFramePr/>
          <p:nvPr/>
        </p:nvGraphicFramePr>
        <p:xfrm>
          <a:off x="-1440" y="-1440"/>
          <a:ext cx="914544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-1440"/>
                    <a:ext cx="914544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Box 3"/>
          <p:cNvSpPr/>
          <p:nvPr/>
        </p:nvSpPr>
        <p:spPr>
          <a:xfrm>
            <a:off x="357120" y="3571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ускултациј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а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71400" y="1356840"/>
            <a:ext cx="700092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Циркулација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врђивање квалитета пулса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рење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71840" y="0"/>
            <a:ext cx="27972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Цирку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60560" y="836280"/>
            <a:ext cx="7183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 подмири потребе ткив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ј. транспорт хранљивих материја, уклањање  отпадних продуката, пренос хормона..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државање адекват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х усл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редине у свим ткивним течнос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СКА и ПЛУЋНА циркул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ови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артерије, артериоле, капилари, венуле и в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динамика изучава физичке законитости протицања крви кроз крвне судове (укључујући и срце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себно односе између притиска, протока и отп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иси и 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и срца као пум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роме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с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рвних судо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дијаметар,         растегљивост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71480" y="0"/>
            <a:ext cx="3429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Артеријски пул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57240" y="1214280"/>
            <a:ext cx="70725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еријски пулс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итмичке осцилације зида артерија проузроковане ритмичким осцилацијама притиска у тим артер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улсне осцилације артеријског зида започињу у почетном делу аор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о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 се притисак шири даљ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зрокује осцилаци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талних крвних судова (пулс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бог еластичности и  растегљивости 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удова притисак се не преноси тренутно на капил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ина ширења осцилац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орта 3-5 m/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е артерије 7-10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ње артерије 15-35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560920" y="0"/>
            <a:ext cx="35830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Content Placeholder 2"/>
          <p:cNvSpPr/>
          <p:nvPr/>
        </p:nvSpPr>
        <p:spPr>
          <a:xfrm>
            <a:off x="0" y="0"/>
            <a:ext cx="594036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лсне осцилације притиска у артеријама могу се изучав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влачењем шупље игле у артер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 ритмичке промене се региструју помоћу трансдјус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РЕКТНО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алпацијом артерија на различитим (типичним) мести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rotis communis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gonum caroticum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Brachiali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lcus bicipitalis medi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у средини надлакти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Radialis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lcus a.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Femoralis – испод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g.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guin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 средини измеђ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inae ilia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e и симфи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Poplitea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ssa poplit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Tibialis posterior – на средини измеђ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leolus medialis tibi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Ахилове те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Dorsalis pedis – на гребену стоп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14320" y="213840"/>
            <a:ext cx="5429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олошки опсег пулса 60-100 /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60 – брадикар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00 – тахикар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валитети пул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еквенца (pulsus rarus / frequent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там (p. irregularis / regu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личина (p. magnus / parv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рдоћа (p. durus / moll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ина (p. celer / tard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инички значај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214800" y="3929040"/>
            <a:ext cx="5214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42680" y="142920"/>
            <a:ext cx="635796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Артеријски крвни притисак (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85600" y="785880"/>
            <a:ext cx="7234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еријски крвни притисак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ила којом крв делује на јединицу површине зида артерије (mmHg или P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в се креће кроз систем крвних судова под утицајем притиска којим срце као пумпа истискује крв у циркулац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тисак је највећи у аорти и опада до артерио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илара, док је 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нама скор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дна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 негатив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а главна фактор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а утичу на вред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артеријс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рв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тис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ханичка активност комо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рца,чији је учинак МИНУТНИ ВОЛУМЕН СРЦА (M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НИ ОТПОР протицању кр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), нарочито отпор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терио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 = MV* x 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на је нормална количина крви у циркулацијском сис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050920" y="260280"/>
            <a:ext cx="73058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одређивање MV потребна 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пособност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на количина кр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одређивање нормалног PO потребни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ан нервни вазоконстрикторни тонус артери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на вискозност к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ена било ког фактора доводи д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ена ТА (хипотензија / хипертензија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дност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ол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тис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дност крвног притиска која настаје у артеријам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истоле, приликом избацивања ударног волумена из леве коморе у циркулацију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редност притиска при којој се појављује први тон над брахијалном артеријом током мерења крвног прит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дност д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л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тис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вредност крвног притиска у артеријама током дијастоле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редност притиска при којој ишчезавају тонови над брахијалном артер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ње дијастолног притиска 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век последица повећања 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57120" y="1143000"/>
          <a:ext cx="8215560" cy="4556160"/>
        </p:xfrm>
        <a:graphic>
          <a:graphicData uri="http://schemas.openxmlformats.org/drawingml/2006/table">
            <a:tbl>
              <a:tblPr/>
              <a:tblGrid>
                <a:gridCol w="2928960"/>
                <a:gridCol w="2643120"/>
                <a:gridCol w="2643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олни притисак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столни притисак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лан крвни притис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нормалан крвни притис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ви 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ћи 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-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-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bfe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рти 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fd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57268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абела 1. Класификација крвног притиска за одрасле особе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 18 година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тарије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5960" y="357120"/>
            <a:ext cx="7143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диоваскуларни систем човека чине срце и крвни судови (артерије, артериоле, капилари, венуле и вен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це је орган (пумпа) чија је улога да пумпа крв у артерије, и даљ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вне суд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две пум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сн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мпе, десног срца (дес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в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рц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пумпа крв у плућа (мали крвот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в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мпе, левог срца (ле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в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рц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пумпа крв кроз периферне органе (велики крвот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томски, срчани мишић (mi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d) је састављен од мишићних ћели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ља = фиброзна мембрана (per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нутра = слој ендотелних ћелија (end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5572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рење артеријског прити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071800" y="1143000"/>
            <a:ext cx="62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рект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фингмоманометар са манжет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алпациони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Аускултациони метод- Коротковљеви тонови (1905.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07212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3786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"/>
          <p:cNvPicPr/>
          <p:nvPr/>
        </p:nvPicPr>
        <p:blipFill>
          <a:blip r:embed="rId3"/>
          <a:stretch/>
        </p:blipFill>
        <p:spPr>
          <a:xfrm>
            <a:off x="0" y="0"/>
            <a:ext cx="3071880" cy="29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1" descr=""/>
          <p:cNvPicPr/>
          <p:nvPr/>
        </p:nvPicPr>
        <p:blipFill>
          <a:blip r:embed="rId4"/>
          <a:stretch/>
        </p:blipFill>
        <p:spPr>
          <a:xfrm>
            <a:off x="300024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8" descr=""/>
          <p:cNvPicPr/>
          <p:nvPr/>
        </p:nvPicPr>
        <p:blipFill>
          <a:blip r:embed="rId5"/>
          <a:stretch/>
        </p:blipFill>
        <p:spPr>
          <a:xfrm>
            <a:off x="0" y="2928960"/>
            <a:ext cx="592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14320" y="1571760"/>
            <a:ext cx="6816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ктично извођење веж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57240" y="1285560"/>
            <a:ext cx="70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Функција срца у физиолошком и клиничком смислу се може посматрати са неколико аспек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лектричне активности срца и провод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рчан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алвуларног апарата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онарне цирк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егулације срчаног 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1785960"/>
            <a:ext cx="5952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ђа ср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рет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тир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ли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риовентрику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трикуспидни (три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итрал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а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илунар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залистак а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залистак плућне ар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7" descr=""/>
          <p:cNvPicPr/>
          <p:nvPr/>
        </p:nvPicPr>
        <p:blipFill>
          <a:blip r:embed="rId1"/>
          <a:stretch/>
        </p:blipFill>
        <p:spPr>
          <a:xfrm>
            <a:off x="4859280" y="115920"/>
            <a:ext cx="40719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071440" y="428400"/>
            <a:ext cx="6715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ога залиста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риовентрику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(AV) залисци спречавају враћање крви за време систоле из комора у прет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илунарни залисци спречавају враћање крви за време дијастоле из аорте и плућне артерије у 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лисци се пасивно отварају и затвар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варањ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отварање залистака се одв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ема градијенту притис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ога папиларних мишић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уку AV залиске у коморе за време систоле ком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залисци н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евиш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инира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упљи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ткомо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143080" y="285840"/>
            <a:ext cx="6786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чани циклус се дели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од СИСТОЛЕ (контракција комора, избацивање крви у плућ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артер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аор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од ДИЈАСТОЛЕ (релаксација комора, пуњење комора крвљу из претком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3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6000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857240" y="428760"/>
            <a:ext cx="70725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арање срчаних залистака је бешумно, док 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варање праћено звучним феноме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ибрације затегнутих залистака одмах по затварањ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једно са вибрацијама околне крви, зидова срца и великих крвних судова око ср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 преносе на површину грудног коша и могу да се региструју стетоскоп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лушањ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нендоскопи (слушалице, стетоскоп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9280" y="260280"/>
            <a:ext cx="7000920" cy="631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сте срчаних т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ви срчани т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поклапа се са артеријским пулсом; настаје приликом затварања АV залистака (турбулентан ток крви изазива вибрације); траје око 0,14 секунд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траје дуже и дубљи је од дру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уги срчани тон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дица наглог затварања семилунарних залистака; траје око 0,11 секунд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траје краће и виши је од дру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ћи срчани тон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некада се на почетку средње трећине дијастоле чује слаб трећи тон који личи на добов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крв улази у делимично напуњену комору – фаза дијастаз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фреквенца је мала па га ухом не можемо чу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тврти срчани то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атри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с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рчани тон) – настаје пре првог тона у фази систоле преткомора, када се систолом преткомора уб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је још 30% крви у ко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3:30:46Z</dcterms:created>
  <dc:creator>Maja</dc:creator>
  <dc:description/>
  <dc:language>en-US</dc:language>
  <cp:lastModifiedBy>User</cp:lastModifiedBy>
  <dcterms:modified xsi:type="dcterms:W3CDTF">2014-10-01T14:42:29Z</dcterms:modified>
  <cp:revision>52</cp:revision>
  <dc:subject/>
  <dc:title>Slide 1</dc:title>
</cp:coreProperties>
</file>