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4.jpeg" ContentType="image/jpeg"/>
  <Override PartName="/ppt/media/image3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87F-2E6B-46BA-8956-AF50A8C0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246-7338-4B8B-ADAE-C20868C2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D13-5C21-495E-B5C2-9E6637D0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F50-A87D-4BF3-B306-BEF1995F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961-A9CE-4FAF-B7BA-9DEDAA72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61B-1E06-4E65-8200-CBD2351E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D3E-9B5B-41C9-92FF-035CDE72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EA1-AD72-4389-A1C4-1A3BA6E0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DB8-B4DA-406D-A6BE-7D2B280B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D47-5490-4338-BB81-4C856BB2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865-FC4A-48BC-8C86-22201938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140-D8CD-417A-A9CC-AAD69CA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470F-B776-4039-9C26-178C25F83615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793120" y="6165720"/>
            <a:ext cx="29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рко А. Рос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1280" y="4437000"/>
            <a:ext cx="480060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с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4/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ва го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с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219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548280" y="202608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из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ћелијск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мбране и ексцитабил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096920" y="2781360"/>
            <a:ext cx="699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мбрански и акциони потенциј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руг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39640" y="1197000"/>
            <a:ext cx="8093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Yu Times New Roman"/>
              </a:rPr>
              <a:t>ДИ</a:t>
            </a:r>
            <a:r>
              <a:rPr b="1" lang="sr-Latn-CS" sz="1600" spc="-1" strike="noStrike">
                <a:solidFill>
                  <a:srgbClr val="ffcc00"/>
                </a:solidFill>
                <a:latin typeface="Yu Times New Roman"/>
              </a:rPr>
              <a:t>ФУЗИОНИ И РАВНОТЕЖНИ ПОТЕНЦИЈ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 u="sng">
                <a:solidFill>
                  <a:srgbClr val="ffcc00"/>
                </a:solidFill>
                <a:uFillTx/>
                <a:latin typeface="Yu Times New Roman"/>
              </a:rPr>
              <a:t>Дифузиони потенцијал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је разлика потенцијала дуж мембране која настаје као последица јонске концентрационе разлике и дифузије јона кроз мембра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Дифузиони потенцијал може да настане само ако је мембрана пропустљива за ј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Вредност дифузионог потенцијала зависи од величине концентрационог градиј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Знак дифузионог потенцијала зависи од тога да ли је јон који дифундује позитивно или негативно наелектрис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Дифузиони потенцијали су настали дифузијом малог броја јона и не доводе до промена у концентрацији јона који дифундуј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2452680" y="5303880"/>
            <a:ext cx="6680160" cy="1538280"/>
          </a:xfrm>
          <a:custGeom>
            <a:avLst/>
            <a:gdLst>
              <a:gd name="textAreaLeft" fmla="*/ 0 w 6680160"/>
              <a:gd name="textAreaRight" fmla="*/ 6680520 w 668016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4208" h="969">
                <a:moveTo>
                  <a:pt x="0" y="969"/>
                </a:moveTo>
                <a:cubicBezTo>
                  <a:pt x="49" y="956"/>
                  <a:pt x="48" y="908"/>
                  <a:pt x="88" y="881"/>
                </a:cubicBezTo>
                <a:cubicBezTo>
                  <a:pt x="123" y="857"/>
                  <a:pt x="188" y="829"/>
                  <a:pt x="230" y="827"/>
                </a:cubicBezTo>
                <a:cubicBezTo>
                  <a:pt x="336" y="823"/>
                  <a:pt x="443" y="822"/>
                  <a:pt x="549" y="820"/>
                </a:cubicBezTo>
                <a:cubicBezTo>
                  <a:pt x="973" y="733"/>
                  <a:pt x="1282" y="763"/>
                  <a:pt x="1782" y="759"/>
                </a:cubicBezTo>
                <a:cubicBezTo>
                  <a:pt x="1816" y="750"/>
                  <a:pt x="1851" y="750"/>
                  <a:pt x="1884" y="738"/>
                </a:cubicBezTo>
                <a:cubicBezTo>
                  <a:pt x="1893" y="735"/>
                  <a:pt x="1901" y="728"/>
                  <a:pt x="1911" y="725"/>
                </a:cubicBezTo>
                <a:cubicBezTo>
                  <a:pt x="1944" y="716"/>
                  <a:pt x="1980" y="716"/>
                  <a:pt x="2013" y="705"/>
                </a:cubicBezTo>
                <a:cubicBezTo>
                  <a:pt x="2064" y="688"/>
                  <a:pt x="2029" y="693"/>
                  <a:pt x="2074" y="684"/>
                </a:cubicBezTo>
                <a:cubicBezTo>
                  <a:pt x="2103" y="678"/>
                  <a:pt x="2149" y="673"/>
                  <a:pt x="2175" y="664"/>
                </a:cubicBezTo>
                <a:cubicBezTo>
                  <a:pt x="2214" y="651"/>
                  <a:pt x="2246" y="629"/>
                  <a:pt x="2284" y="616"/>
                </a:cubicBezTo>
                <a:cubicBezTo>
                  <a:pt x="2334" y="549"/>
                  <a:pt x="2269" y="629"/>
                  <a:pt x="2338" y="569"/>
                </a:cubicBezTo>
                <a:cubicBezTo>
                  <a:pt x="2346" y="562"/>
                  <a:pt x="2350" y="550"/>
                  <a:pt x="2358" y="542"/>
                </a:cubicBezTo>
                <a:cubicBezTo>
                  <a:pt x="2364" y="536"/>
                  <a:pt x="2373" y="534"/>
                  <a:pt x="2379" y="528"/>
                </a:cubicBezTo>
                <a:cubicBezTo>
                  <a:pt x="2405" y="505"/>
                  <a:pt x="2424" y="473"/>
                  <a:pt x="2453" y="454"/>
                </a:cubicBezTo>
                <a:cubicBezTo>
                  <a:pt x="2645" y="83"/>
                  <a:pt x="3333" y="313"/>
                  <a:pt x="3578" y="312"/>
                </a:cubicBezTo>
                <a:cubicBezTo>
                  <a:pt x="3654" y="259"/>
                  <a:pt x="3545" y="332"/>
                  <a:pt x="3619" y="291"/>
                </a:cubicBezTo>
                <a:cubicBezTo>
                  <a:pt x="3633" y="283"/>
                  <a:pt x="3659" y="264"/>
                  <a:pt x="3659" y="264"/>
                </a:cubicBezTo>
                <a:cubicBezTo>
                  <a:pt x="3674" y="242"/>
                  <a:pt x="3687" y="199"/>
                  <a:pt x="3707" y="183"/>
                </a:cubicBezTo>
                <a:cubicBezTo>
                  <a:pt x="3720" y="172"/>
                  <a:pt x="3739" y="170"/>
                  <a:pt x="3754" y="162"/>
                </a:cubicBezTo>
                <a:cubicBezTo>
                  <a:pt x="3775" y="150"/>
                  <a:pt x="3791" y="124"/>
                  <a:pt x="3815" y="122"/>
                </a:cubicBezTo>
                <a:cubicBezTo>
                  <a:pt x="3941" y="109"/>
                  <a:pt x="3860" y="116"/>
                  <a:pt x="4059" y="108"/>
                </a:cubicBezTo>
                <a:cubicBezTo>
                  <a:pt x="4085" y="91"/>
                  <a:pt x="4103" y="75"/>
                  <a:pt x="4134" y="68"/>
                </a:cubicBezTo>
                <a:cubicBezTo>
                  <a:pt x="4143" y="61"/>
                  <a:pt x="4152" y="54"/>
                  <a:pt x="4161" y="47"/>
                </a:cubicBezTo>
                <a:cubicBezTo>
                  <a:pt x="4174" y="38"/>
                  <a:pt x="4201" y="20"/>
                  <a:pt x="4201" y="20"/>
                </a:cubicBezTo>
                <a:cubicBezTo>
                  <a:pt x="4203" y="13"/>
                  <a:pt x="4208" y="0"/>
                  <a:pt x="4208" y="0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743200" y="6095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7543800" y="525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343400" y="5867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 flipV="1">
            <a:off x="5638680" y="5712840"/>
            <a:ext cx="3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260320" y="65530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41600" y="56386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7927200" y="601992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6631920" y="594360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736440" y="65530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8686800" y="4876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1484280"/>
            <a:ext cx="80931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Yu Times New Roman"/>
              </a:rPr>
              <a:t>ДИ</a:t>
            </a:r>
            <a:r>
              <a:rPr b="1" lang="sr-Latn-CS" sz="1600" spc="-1" strike="noStrike">
                <a:solidFill>
                  <a:srgbClr val="ffcc00"/>
                </a:solidFill>
                <a:latin typeface="Yu Times New Roman"/>
              </a:rPr>
              <a:t>ФУЗИОНИ И РАВНОТЕЖНИ ПОТЕНЦИЈ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1" i="1" lang="sr-Latn-CS" sz="1800" spc="-1" strike="noStrike" u="sng">
                <a:solidFill>
                  <a:srgbClr val="ffcc00"/>
                </a:solidFill>
                <a:uFillTx/>
                <a:latin typeface="Yu Times New Roman"/>
              </a:rPr>
              <a:t>Равнотежни потенцијал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је дифузиони потенцијал који тачно уравнотежава, супротставља се, тенденцији за дифузијом, а тенденција за дифузијом настаје као последица разлике у концентрацији ј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ри електрохемијској равнотежи, силе хемијског и електричног кретања неког јона су једнаке и супротне, тако да нето дифузија јона више не постој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2452680" y="5303880"/>
            <a:ext cx="6680160" cy="1538280"/>
          </a:xfrm>
          <a:custGeom>
            <a:avLst/>
            <a:gdLst>
              <a:gd name="textAreaLeft" fmla="*/ 0 w 6680160"/>
              <a:gd name="textAreaRight" fmla="*/ 6680520 w 668016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4208" h="969">
                <a:moveTo>
                  <a:pt x="0" y="969"/>
                </a:moveTo>
                <a:cubicBezTo>
                  <a:pt x="49" y="956"/>
                  <a:pt x="48" y="908"/>
                  <a:pt x="88" y="881"/>
                </a:cubicBezTo>
                <a:cubicBezTo>
                  <a:pt x="123" y="857"/>
                  <a:pt x="188" y="829"/>
                  <a:pt x="230" y="827"/>
                </a:cubicBezTo>
                <a:cubicBezTo>
                  <a:pt x="336" y="823"/>
                  <a:pt x="443" y="822"/>
                  <a:pt x="549" y="820"/>
                </a:cubicBezTo>
                <a:cubicBezTo>
                  <a:pt x="973" y="733"/>
                  <a:pt x="1282" y="763"/>
                  <a:pt x="1782" y="759"/>
                </a:cubicBezTo>
                <a:cubicBezTo>
                  <a:pt x="1816" y="750"/>
                  <a:pt x="1851" y="750"/>
                  <a:pt x="1884" y="738"/>
                </a:cubicBezTo>
                <a:cubicBezTo>
                  <a:pt x="1893" y="735"/>
                  <a:pt x="1901" y="728"/>
                  <a:pt x="1911" y="725"/>
                </a:cubicBezTo>
                <a:cubicBezTo>
                  <a:pt x="1944" y="716"/>
                  <a:pt x="1980" y="716"/>
                  <a:pt x="2013" y="705"/>
                </a:cubicBezTo>
                <a:cubicBezTo>
                  <a:pt x="2064" y="688"/>
                  <a:pt x="2029" y="693"/>
                  <a:pt x="2074" y="684"/>
                </a:cubicBezTo>
                <a:cubicBezTo>
                  <a:pt x="2103" y="678"/>
                  <a:pt x="2149" y="673"/>
                  <a:pt x="2175" y="664"/>
                </a:cubicBezTo>
                <a:cubicBezTo>
                  <a:pt x="2214" y="651"/>
                  <a:pt x="2246" y="629"/>
                  <a:pt x="2284" y="616"/>
                </a:cubicBezTo>
                <a:cubicBezTo>
                  <a:pt x="2334" y="549"/>
                  <a:pt x="2269" y="629"/>
                  <a:pt x="2338" y="569"/>
                </a:cubicBezTo>
                <a:cubicBezTo>
                  <a:pt x="2346" y="562"/>
                  <a:pt x="2350" y="550"/>
                  <a:pt x="2358" y="542"/>
                </a:cubicBezTo>
                <a:cubicBezTo>
                  <a:pt x="2364" y="536"/>
                  <a:pt x="2373" y="534"/>
                  <a:pt x="2379" y="528"/>
                </a:cubicBezTo>
                <a:cubicBezTo>
                  <a:pt x="2405" y="505"/>
                  <a:pt x="2424" y="473"/>
                  <a:pt x="2453" y="454"/>
                </a:cubicBezTo>
                <a:cubicBezTo>
                  <a:pt x="2645" y="83"/>
                  <a:pt x="3333" y="313"/>
                  <a:pt x="3578" y="312"/>
                </a:cubicBezTo>
                <a:cubicBezTo>
                  <a:pt x="3654" y="259"/>
                  <a:pt x="3545" y="332"/>
                  <a:pt x="3619" y="291"/>
                </a:cubicBezTo>
                <a:cubicBezTo>
                  <a:pt x="3633" y="283"/>
                  <a:pt x="3659" y="264"/>
                  <a:pt x="3659" y="264"/>
                </a:cubicBezTo>
                <a:cubicBezTo>
                  <a:pt x="3674" y="242"/>
                  <a:pt x="3687" y="199"/>
                  <a:pt x="3707" y="183"/>
                </a:cubicBezTo>
                <a:cubicBezTo>
                  <a:pt x="3720" y="172"/>
                  <a:pt x="3739" y="170"/>
                  <a:pt x="3754" y="162"/>
                </a:cubicBezTo>
                <a:cubicBezTo>
                  <a:pt x="3775" y="150"/>
                  <a:pt x="3791" y="124"/>
                  <a:pt x="3815" y="122"/>
                </a:cubicBezTo>
                <a:cubicBezTo>
                  <a:pt x="3941" y="109"/>
                  <a:pt x="3860" y="116"/>
                  <a:pt x="4059" y="108"/>
                </a:cubicBezTo>
                <a:cubicBezTo>
                  <a:pt x="4085" y="91"/>
                  <a:pt x="4103" y="75"/>
                  <a:pt x="4134" y="68"/>
                </a:cubicBezTo>
                <a:cubicBezTo>
                  <a:pt x="4143" y="61"/>
                  <a:pt x="4152" y="54"/>
                  <a:pt x="4161" y="47"/>
                </a:cubicBezTo>
                <a:cubicBezTo>
                  <a:pt x="4174" y="38"/>
                  <a:pt x="4201" y="20"/>
                  <a:pt x="4201" y="20"/>
                </a:cubicBezTo>
                <a:cubicBezTo>
                  <a:pt x="4203" y="13"/>
                  <a:pt x="4208" y="0"/>
                  <a:pt x="4208" y="0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743200" y="6095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543800" y="525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343400" y="5867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 flipV="1">
            <a:off x="5638680" y="5712840"/>
            <a:ext cx="3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260320" y="65530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8841600" y="56386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7927200" y="601992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6631920" y="594360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736440" y="65530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8686800" y="4876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5-1"/>
          <p:cNvPicPr/>
          <p:nvPr/>
        </p:nvPicPr>
        <p:blipFill>
          <a:blip r:embed="rId1"/>
          <a:stretch/>
        </p:blipFill>
        <p:spPr>
          <a:xfrm>
            <a:off x="380880" y="1143000"/>
            <a:ext cx="5904000" cy="5510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509040" y="228600"/>
            <a:ext cx="76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Yu Times New Roman"/>
              </a:rPr>
              <a:t>ПРИМЕРИ</a:t>
            </a:r>
            <a:r>
              <a:rPr b="0" lang="en-US" sz="24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Yu Times New Roman"/>
              </a:rPr>
              <a:t>ЗА </a:t>
            </a:r>
            <a:r>
              <a:rPr b="0" lang="en-US" sz="24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Yu 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Yu Times New Roman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Yu Times New Roman"/>
              </a:rPr>
              <a:t>ДИФУЗИОНЕ ПОТЕНЦИЈ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6629400" y="4267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6553080" y="266688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139880" y="2057400"/>
            <a:ext cx="215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иле хемијск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ретањ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онцентрац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разлик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7073640" y="3695760"/>
            <a:ext cx="21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иле електричн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ре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отенција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разлик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6400800" y="2286000"/>
            <a:ext cx="83808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80880" y="838080"/>
            <a:ext cx="86108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Yu Times New Roman"/>
              </a:rPr>
              <a:t>NERNST</a:t>
            </a:r>
            <a:r>
              <a:rPr b="0" lang="sr-Latn-CS" sz="2000" spc="-1" strike="noStrike">
                <a:solidFill>
                  <a:srgbClr val="009999"/>
                </a:solidFill>
                <a:latin typeface="Yu Times New Roman"/>
              </a:rPr>
              <a:t>-ова</a:t>
            </a:r>
            <a:r>
              <a:rPr b="0" lang="en-US" sz="2000" spc="-1" strike="noStrike">
                <a:solidFill>
                  <a:srgbClr val="009999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9999"/>
                </a:solidFill>
                <a:latin typeface="Yu Times New Roman"/>
              </a:rPr>
              <a:t>ЈЕДНАЧИНА</a:t>
            </a:r>
            <a:r>
              <a:rPr b="0" lang="en-US" sz="2000" spc="-1" strike="noStrike">
                <a:solidFill>
                  <a:srgbClr val="009999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се користи за израчунавање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равнотежног потенцијала за дату концентрациону разлику пермеабилног јона кроз ћелијску мембра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E = ± 61 log Ci/Co  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где је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Co =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екстрацелуларна концентрациј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Ci =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интрацелуларна концент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E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Yu Times New Roman"/>
              </a:rPr>
              <a:t>Na+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= + 65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Yu Times New Roman"/>
              </a:rPr>
              <a:t>K+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= - 85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Yu Times New Roman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Yu Times New Roman"/>
              </a:rPr>
              <a:t>2+ 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= + 120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Yu Times New Roman"/>
              </a:rPr>
              <a:t>Cl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 = - 85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Ова једначина показује вредност потенцијала за дати јон при електрохемијској равнотежи у случају да је мембрана пермеaбилнa сaмо зa тaј јон (не и зa другe јон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4267080" y="32004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 flipH="1">
            <a:off x="4267080" y="35053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4114800" y="2819520"/>
            <a:ext cx="6858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5181480" y="3200400"/>
            <a:ext cx="2200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нотеж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80880" y="5410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Yu Times New Roman"/>
              </a:rPr>
              <a:t>Знак потенцијала има позитивну вредност </a:t>
            </a:r>
            <a:r>
              <a:rPr b="0" i="1" lang="en-US" sz="2000" spc="-1" strike="noStrike">
                <a:solidFill>
                  <a:srgbClr val="000000"/>
                </a:solidFill>
                <a:latin typeface="Yu Times New Roman"/>
              </a:rPr>
              <a:t>(+) </a:t>
            </a:r>
            <a:r>
              <a:rPr b="0" i="1" lang="sr-Latn-CS" sz="2000" spc="-1" strike="noStrike">
                <a:solidFill>
                  <a:srgbClr val="000000"/>
                </a:solidFill>
                <a:latin typeface="Yu Times New Roman"/>
              </a:rPr>
              <a:t>ако је јон који се разматра негативан а негативну </a:t>
            </a:r>
            <a:r>
              <a:rPr b="0" i="1" lang="en-US" sz="2000" spc="-1" strike="noStrike">
                <a:solidFill>
                  <a:srgbClr val="000000"/>
                </a:solidFill>
                <a:latin typeface="Yu Times New Roman"/>
              </a:rPr>
              <a:t>(-) </a:t>
            </a:r>
            <a:r>
              <a:rPr b="0" i="1" lang="sr-Latn-CS" sz="2000" spc="-1" strike="noStrike">
                <a:solidFill>
                  <a:srgbClr val="000000"/>
                </a:solidFill>
                <a:latin typeface="Yu Times New Roman"/>
              </a:rPr>
              <a:t>ако је јон позитиван</a:t>
            </a:r>
            <a:r>
              <a:rPr b="0" i="1" lang="en-US" sz="20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295280" y="1752480"/>
            <a:ext cx="213372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365840" y="6324480"/>
            <a:ext cx="81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Израчунајте мембрански потенцијал за различите вредности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 C 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и размислите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goldman jednacina"/>
          <p:cNvPicPr/>
          <p:nvPr/>
        </p:nvPicPr>
        <p:blipFill>
          <a:blip r:embed="rId1"/>
          <a:stretch/>
        </p:blipFill>
        <p:spPr>
          <a:xfrm>
            <a:off x="914400" y="3200400"/>
            <a:ext cx="7543800" cy="1693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04920" y="380880"/>
            <a:ext cx="86263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Yu Times New Roman"/>
              </a:rPr>
              <a:t>GOLDMAN-HODKIN-KATZ</a:t>
            </a:r>
            <a:r>
              <a:rPr b="1" lang="sr-Latn-CS" sz="2000" spc="-1" strike="noStrike">
                <a:solidFill>
                  <a:srgbClr val="99cc00"/>
                </a:solidFill>
                <a:latin typeface="Yu Times New Roman"/>
              </a:rPr>
              <a:t>-ова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 </a:t>
            </a:r>
            <a:r>
              <a:rPr b="1" lang="en-US" sz="2000" spc="-1" strike="noStrike">
                <a:solidFill>
                  <a:srgbClr val="99cc00"/>
                </a:solidFill>
                <a:latin typeface="Yu Times New Roman"/>
              </a:rPr>
              <a:t>ЈЕДНА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Када је мембрана пермеабилна за неколико различитих јона, дифузиони потенцијал који се развија зависи од </a:t>
            </a:r>
            <a:r>
              <a:rPr b="1" lang="en-US" sz="2000" spc="-1" strike="noStrike">
                <a:solidFill>
                  <a:srgbClr val="000000"/>
                </a:solidFill>
                <a:latin typeface="Yu 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Yu Times New Roman"/>
              </a:rPr>
              <a:t>1.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поларности електричног набоја за сваки ј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2.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пермеабилитета мембране за сваки јон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 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3.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концентрације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 (C)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посматраних јона са унутрашње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 (и) </a:t>
            </a:r>
            <a:r>
              <a:rPr b="1" lang="sr-C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   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спољаш</a:t>
            </a:r>
            <a:r>
              <a:rPr b="1" lang="sr-CS" sz="1800" spc="-1" strike="noStrike">
                <a:solidFill>
                  <a:srgbClr val="000000"/>
                </a:solidFill>
                <a:latin typeface="Yu Times New Roman"/>
              </a:rPr>
              <a:t>њ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е </a:t>
            </a:r>
            <a:r>
              <a:rPr b="1" lang="en-US" sz="1800" spc="-1" strike="noStrike">
                <a:solidFill>
                  <a:srgbClr val="000000"/>
                </a:solidFill>
                <a:latin typeface="Yu Times New Roman"/>
              </a:rPr>
              <a:t>(о) </a:t>
            </a:r>
            <a:r>
              <a:rPr b="1" lang="sr-Latn-CS" sz="1800" spc="-1" strike="noStrike">
                <a:solidFill>
                  <a:srgbClr val="000000"/>
                </a:solidFill>
                <a:latin typeface="Yu Times New Roman"/>
              </a:rPr>
              <a:t>стране мемб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62120" y="5334120"/>
            <a:ext cx="7772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Yu 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Yu 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е брзо мења током провођења импулс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у ексцитабилним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т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ивим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14400" y="3200400"/>
            <a:ext cx="7543800" cy="1676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13400" y="6172200"/>
            <a:ext cx="91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Израчунај мембрански потенцијал за различите вредности 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C 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и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 P (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од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 0 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до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 1) 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и размисли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4920" y="380880"/>
            <a:ext cx="866304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9cc00"/>
                </a:solidFill>
                <a:latin typeface="Yu Times New Roman"/>
              </a:rPr>
              <a:t>МИРОВНИ МЕМБРАНСКИ ПОТЕНЦИЈ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е изражава као измерена потенцијална разлика кроз ћелијску мембрану у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е према конвенцији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изражава као вредност интрацелуларног потенцијала у односу на екстрацелуларни потенцијал.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Т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ако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мировни мембрански потенцијал од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– 70mV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значи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70 mV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а негативношћу у ћелији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5-2"/>
          <p:cNvPicPr/>
          <p:nvPr/>
        </p:nvPicPr>
        <p:blipFill>
          <a:blip r:embed="rId1"/>
          <a:stretch/>
        </p:blipFill>
        <p:spPr>
          <a:xfrm>
            <a:off x="1828800" y="3124080"/>
            <a:ext cx="5076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5-5"/>
          <p:cNvPicPr/>
          <p:nvPr/>
        </p:nvPicPr>
        <p:blipFill>
          <a:blip r:embed="rId1"/>
          <a:stretch/>
        </p:blipFill>
        <p:spPr>
          <a:xfrm>
            <a:off x="5483160" y="0"/>
            <a:ext cx="36608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79280" y="1628640"/>
            <a:ext cx="527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Мировни мембрански потенцијал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МП) настаје као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оследица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дифузион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ог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потенциј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ла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који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са друге стране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настаје као резултат концентрационе разлике пермеабилних ј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Сваки пермеабилни јон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тежи да управи мембрански потенцијал према свом равнотежном потенцијалу. Јони који поседују највећу пермеабилност или кондуктансу, ће имати највеће учешће у формирању ММ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5-5"/>
          <p:cNvPicPr/>
          <p:nvPr/>
        </p:nvPicPr>
        <p:blipFill>
          <a:blip r:embed="rId1"/>
          <a:stretch/>
        </p:blipFill>
        <p:spPr>
          <a:xfrm>
            <a:off x="5483160" y="0"/>
            <a:ext cx="366084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79280" y="1773360"/>
            <a:ext cx="527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Током мировањ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нервна мембрана је далеко више пермеабилна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него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Због тога је вредност ММП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близу вредности израчунатог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равнотежног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али далеко 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равнотежног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Директно учешће електрогене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-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пумп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је мало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умпа учествује у стварању ММП више индиректно, на тај начин што одржава градијент концентрације кроз ћелијску мемб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65040" y="304920"/>
            <a:ext cx="8677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Yu Times New Roman"/>
              </a:rPr>
              <a:t>A</a:t>
            </a:r>
            <a:r>
              <a:rPr b="0" lang="sr-Latn-CS" sz="1800" spc="-1" strike="noStrike">
                <a:solidFill>
                  <a:srgbClr val="99cc00"/>
                </a:solidFill>
                <a:latin typeface="Yu Times New Roman"/>
              </a:rPr>
              <a:t>КЦИОНИ ПОТЕНЦ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је својство ексцитабилних ћелиј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тј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нерв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м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ишић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оје се састоји из брзе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(mse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деполар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изације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оја је праћена реполаризацијом мембранског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Акциони потенцијали имају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тереотипичну величину и об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ростиру се (шире се) дуж мемб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о принципу све или ништ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5-6"/>
          <p:cNvPicPr/>
          <p:nvPr/>
        </p:nvPicPr>
        <p:blipFill>
          <a:blip r:embed="rId1"/>
          <a:stretch/>
        </p:blipFill>
        <p:spPr>
          <a:xfrm>
            <a:off x="1447920" y="2819520"/>
            <a:ext cx="6172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228600"/>
            <a:ext cx="91440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Д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ЕПОЛАРИЗАЦИЈ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смањује негативност мембранског потенцијала 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(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унутрашњост ћелије постаје мање негативна)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Х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ИПЕРПОЛАРИЗАЦИЈ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повећава негативност мембранског потенцијал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унутрашњост ћелије постаје више негатив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"УНУТРА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ШЊА СТРУЈА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"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 (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INWARD CURRENT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је кретање позитивног наелектрисања у ћелију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Унутрашња струја 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деполариз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ује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мембран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"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СПОЉНА СТРУЈА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" </a:t>
            </a:r>
            <a:r>
              <a:rPr b="0" lang="sr-Latn-C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OUTWARD CURRENT</a:t>
            </a:r>
            <a:r>
              <a:rPr b="0" lang="sr-CS" sz="1600" spc="-1" strike="noStrike">
                <a:solidFill>
                  <a:srgbClr val="009999"/>
                </a:solidFill>
                <a:latin typeface="Yu 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је кретање позитивног наелектрисања из ћелије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"</a:t>
            </a:r>
            <a:r>
              <a:rPr b="0" lang="sr-Latn-CS" sz="1600" spc="-1" strike="noStrike">
                <a:solidFill>
                  <a:srgbClr val="009999"/>
                </a:solidFill>
                <a:latin typeface="Yu Times New Roman"/>
              </a:rPr>
              <a:t>Спољна струја</a:t>
            </a:r>
            <a:r>
              <a:rPr b="0" lang="en-US" sz="1600" spc="-1" strike="noStrike">
                <a:solidFill>
                  <a:srgbClr val="009999"/>
                </a:solidFill>
                <a:latin typeface="Yu 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хиперполаризује мембрану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5-6"/>
          <p:cNvPicPr/>
          <p:nvPr/>
        </p:nvPicPr>
        <p:blipFill>
          <a:blip r:embed="rId1"/>
          <a:stretch/>
        </p:blipFill>
        <p:spPr>
          <a:xfrm>
            <a:off x="2057400" y="3124080"/>
            <a:ext cx="4876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j0299125"/>
          <p:cNvPicPr/>
          <p:nvPr/>
        </p:nvPicPr>
        <p:blipFill>
          <a:blip r:embed="rId1"/>
          <a:stretch/>
        </p:blipFill>
        <p:spPr>
          <a:xfrm>
            <a:off x="539640" y="1557360"/>
            <a:ext cx="3649680" cy="475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3"/>
          <p:cNvSpPr/>
          <p:nvPr/>
        </p:nvSpPr>
        <p:spPr>
          <a:xfrm>
            <a:off x="4140360" y="2565360"/>
            <a:ext cx="40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99cc00"/>
                </a:solidFill>
                <a:uFillTx/>
                <a:latin typeface="Times New Roman"/>
              </a:rPr>
              <a:t>Ч</a:t>
            </a:r>
            <a:r>
              <a:rPr b="1" i="1" lang="en-US" sz="2200" spc="-1" strike="noStrike" u="sng">
                <a:solidFill>
                  <a:srgbClr val="99cc00"/>
                </a:solidFill>
                <a:uFillTx/>
                <a:latin typeface="Yu Times New Roman"/>
              </a:rPr>
              <a:t>ЕТИРИ ЗЛАТНА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962520" y="3141720"/>
            <a:ext cx="459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00"/>
                </a:solidFill>
                <a:uFillTx/>
                <a:latin typeface="Yu Times New Roman"/>
              </a:rPr>
              <a:t>СЛУШАЈ 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(боље него само да чита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00"/>
                </a:solidFill>
                <a:uFillTx/>
                <a:latin typeface="Yu Times New Roman"/>
              </a:rPr>
              <a:t>ПИТАЈ 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(нема глупих пит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00"/>
                </a:solidFill>
                <a:uFillTx/>
                <a:latin typeface="Times New Roman"/>
              </a:rPr>
              <a:t>МИС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да разуме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00"/>
                </a:solidFill>
                <a:uFillTx/>
                <a:latin typeface="Yu Times New Roman"/>
              </a:rPr>
              <a:t>ПОНАВЉА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да запамти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5-18"/>
          <p:cNvPicPr/>
          <p:nvPr/>
        </p:nvPicPr>
        <p:blipFill>
          <a:blip r:embed="rId1"/>
          <a:stretch/>
        </p:blipFill>
        <p:spPr>
          <a:xfrm>
            <a:off x="990720" y="2781360"/>
            <a:ext cx="6984720" cy="38862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12760" y="907920"/>
            <a:ext cx="8931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9cc00"/>
                </a:solidFill>
                <a:latin typeface="Yu Times New Roman"/>
              </a:rPr>
              <a:t>ПРАГ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је вредност потенцијала мембране на коме је акциони потенцијал неизбежан.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Inward current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(унутрашња струја)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деполариз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ује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мембран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Ако унутрашња струја деполаризује мембрану до вредности прага, настаје акциони потенцијал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У случају да није довољно позитивних јона ушло у ћелију да би деполаризовало мембрану до праг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убпраговни потенцијал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,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тада неће настати акциони потенцијал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5-10"/>
          <p:cNvPicPr/>
          <p:nvPr/>
        </p:nvPicPr>
        <p:blipFill>
          <a:blip r:embed="rId1"/>
          <a:stretch/>
        </p:blipFill>
        <p:spPr>
          <a:xfrm>
            <a:off x="5226120" y="0"/>
            <a:ext cx="39178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Line 3"/>
          <p:cNvSpPr/>
          <p:nvPr/>
        </p:nvSpPr>
        <p:spPr>
          <a:xfrm>
            <a:off x="6629400" y="0"/>
            <a:ext cx="0" cy="533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6095880" y="1522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79280" y="1557360"/>
            <a:ext cx="49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9cc00"/>
                </a:solidFill>
                <a:latin typeface="Yu Times New Roman"/>
              </a:rPr>
              <a:t>АКЦИОНИ ПОТЕНЦ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ретање позитивних јона у ћелију деполаризује мембрански потенцијал до пр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Деполариза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ција проузрокује брзо отварање   активационих врат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анал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роводљивост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брзо расте</a:t>
            </a:r>
            <a:r>
              <a:rPr b="0" lang="en-US" sz="1800" spc="-1" strike="noStrike">
                <a:solidFill>
                  <a:srgbClr val="99cc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620120" y="2743200"/>
            <a:ext cx="152388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8"/>
          <p:cNvGraphicFramePr/>
          <p:nvPr/>
        </p:nvGraphicFramePr>
        <p:xfrm>
          <a:off x="7696080" y="2819520"/>
          <a:ext cx="14479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2819520"/>
                    <a:ext cx="1447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5-10"/>
          <p:cNvPicPr/>
          <p:nvPr/>
        </p:nvPicPr>
        <p:blipFill>
          <a:blip r:embed="rId1"/>
          <a:stretch/>
        </p:blipFill>
        <p:spPr>
          <a:xfrm>
            <a:off x="5226120" y="0"/>
            <a:ext cx="39178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Line 3"/>
          <p:cNvSpPr/>
          <p:nvPr/>
        </p:nvSpPr>
        <p:spPr>
          <a:xfrm>
            <a:off x="6629400" y="0"/>
            <a:ext cx="0" cy="533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 flipH="1">
            <a:off x="6095880" y="1522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9280" y="1773360"/>
            <a:ext cx="496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9cc00"/>
                </a:solidFill>
                <a:latin typeface="Yu Times New Roman"/>
              </a:rPr>
              <a:t>АКЦИОНИ ПОТЕНЦ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роводљивост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остаје већа него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и мембрански потенцијал се креће прем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али га сасвим не достиже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равнотежном потенцијалу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Таква брза деполаризација током акционог потенцијала настаје услед уласк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у ћелију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620120" y="2743200"/>
            <a:ext cx="152388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8"/>
          <p:cNvGraphicFramePr/>
          <p:nvPr/>
        </p:nvGraphicFramePr>
        <p:xfrm>
          <a:off x="7696080" y="2819520"/>
          <a:ext cx="14479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2819520"/>
                    <a:ext cx="1447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5-10"/>
          <p:cNvPicPr/>
          <p:nvPr/>
        </p:nvPicPr>
        <p:blipFill>
          <a:blip r:embed="rId1"/>
          <a:stretch/>
        </p:blipFill>
        <p:spPr>
          <a:xfrm>
            <a:off x="5226120" y="0"/>
            <a:ext cx="39178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Line 3"/>
          <p:cNvSpPr/>
          <p:nvPr/>
        </p:nvSpPr>
        <p:spPr>
          <a:xfrm>
            <a:off x="6629400" y="0"/>
            <a:ext cx="0" cy="533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 flipH="1">
            <a:off x="6095880" y="1522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79280" y="1484280"/>
            <a:ext cx="49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99cc00"/>
                </a:solidFill>
                <a:latin typeface="Yu Times New Roman"/>
              </a:rPr>
              <a:t>АКЦИОНИ ПОТЕНЦ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The </a:t>
            </a:r>
            <a:r>
              <a:rPr b="1" i="1" lang="en-US" sz="1800" spc="-1" strike="noStrike">
                <a:solidFill>
                  <a:srgbClr val="009999"/>
                </a:solidFill>
                <a:latin typeface="Yu Times New Roman"/>
              </a:rPr>
              <a:t>overshot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је брзи део на врху акционог потенцијала када је потенцијал мембране позитиван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-Тетродотоxин (ТТX)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блокира ове волтаж-зависне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Na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анале и онемогућава настајање акционог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620120" y="2743200"/>
            <a:ext cx="152388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8"/>
          <p:cNvGraphicFramePr/>
          <p:nvPr/>
        </p:nvGraphicFramePr>
        <p:xfrm>
          <a:off x="7696080" y="2819520"/>
          <a:ext cx="14479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2819520"/>
                    <a:ext cx="1447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5-10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Line 3"/>
          <p:cNvSpPr/>
          <p:nvPr/>
        </p:nvSpPr>
        <p:spPr>
          <a:xfrm>
            <a:off x="6629400" y="0"/>
            <a:ext cx="0" cy="533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6705720" y="1522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0" y="1773360"/>
            <a:ext cx="5410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99cc00"/>
                </a:solidFill>
                <a:latin typeface="Yu Times New Roman"/>
              </a:rPr>
              <a:t>ФАЗА </a:t>
            </a:r>
            <a:r>
              <a:rPr b="0" lang="en-US" sz="1600" spc="-1" strike="noStrike">
                <a:solidFill>
                  <a:srgbClr val="99cc00"/>
                </a:solidFill>
                <a:latin typeface="Yu Times New Roman"/>
              </a:rPr>
              <a:t>РЕПОЛ</a:t>
            </a:r>
            <a:r>
              <a:rPr b="0" lang="sr-Latn-CS" sz="1600" spc="-1" strike="noStrike">
                <a:solidFill>
                  <a:srgbClr val="99cc00"/>
                </a:solidFill>
                <a:latin typeface="Yu Times New Roman"/>
              </a:rPr>
              <a:t>АРИЗАЦИЈЕ АКЦИОНОГ ПОТЕНЦИЈ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Деполариза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ција изазива и затварање инактивационих врата</a:t>
            </a:r>
            <a:r>
              <a:rPr b="0" lang="sr-C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канал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али много спорије него што узрокује отварање активационих врат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).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Затварање инактивационих врата доводи до затварања натријумових канала, и проводљивост за 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се враћа ка нули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5-7"/>
          <p:cNvPicPr/>
          <p:nvPr/>
        </p:nvPicPr>
        <p:blipFill>
          <a:blip r:embed="rId2"/>
          <a:stretch/>
        </p:blipFill>
        <p:spPr>
          <a:xfrm>
            <a:off x="7620120" y="26668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7620120" y="2666880"/>
            <a:ext cx="152388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8"/>
          <p:cNvGraphicFramePr/>
          <p:nvPr/>
        </p:nvGraphicFramePr>
        <p:xfrm>
          <a:off x="7696080" y="2666880"/>
          <a:ext cx="144792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2666880"/>
                    <a:ext cx="14479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5-10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Line 3"/>
          <p:cNvSpPr/>
          <p:nvPr/>
        </p:nvSpPr>
        <p:spPr>
          <a:xfrm>
            <a:off x="6629400" y="0"/>
            <a:ext cx="0" cy="533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6705720" y="1522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0" y="1557360"/>
            <a:ext cx="5410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99cc00"/>
                </a:solidFill>
                <a:latin typeface="Yu Times New Roman"/>
              </a:rPr>
              <a:t>ФАЗА </a:t>
            </a:r>
            <a:r>
              <a:rPr b="0" lang="en-US" sz="1600" spc="-1" strike="noStrike">
                <a:solidFill>
                  <a:srgbClr val="99cc00"/>
                </a:solidFill>
                <a:latin typeface="Yu Times New Roman"/>
              </a:rPr>
              <a:t>РЕПОЛ</a:t>
            </a:r>
            <a:r>
              <a:rPr b="0" lang="sr-Latn-CS" sz="1600" spc="-1" strike="noStrike">
                <a:solidFill>
                  <a:srgbClr val="99cc00"/>
                </a:solidFill>
                <a:latin typeface="Yu Times New Roman"/>
              </a:rPr>
              <a:t>АРИЗАЦИЈЕ АКЦИОНОГ ПОТЕНЦИЈ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Деполариза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ција споро отвара 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канал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повећава проводљивост з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 K</a:t>
            </a:r>
            <a:r>
              <a:rPr b="0" lang="en-US" sz="16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чак до вишег нивоа него у    мировањ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Заједнички ефекат затварања натријумових канала и веће отварање калијумових канала доводи до повећања проводљивости за калијум, и мембрански потенцијал је реполаризован. На тај начин, излазак калијумових јона из ћелије доводи до реполаризац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5-7"/>
          <p:cNvPicPr/>
          <p:nvPr/>
        </p:nvPicPr>
        <p:blipFill>
          <a:blip r:embed="rId2"/>
          <a:stretch/>
        </p:blipFill>
        <p:spPr>
          <a:xfrm>
            <a:off x="7620120" y="26668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7620120" y="2666880"/>
            <a:ext cx="152388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8"/>
          <p:cNvGraphicFramePr/>
          <p:nvPr/>
        </p:nvGraphicFramePr>
        <p:xfrm>
          <a:off x="7696080" y="2666880"/>
          <a:ext cx="144792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2666880"/>
                    <a:ext cx="14479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5-10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Line 3"/>
          <p:cNvSpPr/>
          <p:nvPr/>
        </p:nvSpPr>
        <p:spPr>
          <a:xfrm>
            <a:off x="6629400" y="0"/>
            <a:ext cx="0" cy="533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6705720" y="1522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0" y="1628640"/>
            <a:ext cx="5410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99cc00"/>
                </a:solidFill>
                <a:latin typeface="Yu Times New Roman"/>
              </a:rPr>
              <a:t>ФАЗА </a:t>
            </a:r>
            <a:r>
              <a:rPr b="0" lang="en-US" sz="1600" spc="-1" strike="noStrike">
                <a:solidFill>
                  <a:srgbClr val="99cc00"/>
                </a:solidFill>
                <a:latin typeface="Yu Times New Roman"/>
              </a:rPr>
              <a:t>РЕПОЛ</a:t>
            </a:r>
            <a:r>
              <a:rPr b="0" lang="sr-Latn-CS" sz="1600" spc="-1" strike="noStrike">
                <a:solidFill>
                  <a:srgbClr val="99cc00"/>
                </a:solidFill>
                <a:latin typeface="Yu Times New Roman"/>
              </a:rPr>
              <a:t>АРИЗАЦИЈЕ АКЦИОНОГ ПОТЕНЦИЈ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99"/>
                </a:solidFill>
                <a:latin typeface="Yu Times New Roman"/>
              </a:rPr>
              <a:t>Undershoot (hyperpolarizing afterpotential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99"/>
                </a:solidFill>
                <a:latin typeface="Yu Times New Roman"/>
              </a:rPr>
              <a:t>positive afterpotential</a:t>
            </a:r>
            <a:r>
              <a:rPr b="1" i="1" lang="sr-Latn-CS" sz="1600" spc="-1" strike="noStrike">
                <a:solidFill>
                  <a:srgbClr val="009999"/>
                </a:solidFill>
                <a:latin typeface="Yu Times New Roman"/>
              </a:rPr>
              <a:t>) хиперполаризујући накнадни потенцијал или позитивни накнадни потенцијал</a:t>
            </a:r>
            <a:r>
              <a:rPr b="1" i="1" lang="en-US" sz="1600" spc="-1" strike="noStrike">
                <a:solidFill>
                  <a:srgbClr val="009999"/>
                </a:solidFill>
                <a:latin typeface="Yu 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–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Проводљивост за калијум се задржава на вишој вредности него у мировању кратко време након затварања натријумових канала</a:t>
            </a:r>
            <a:r>
              <a:rPr b="0" lang="en-US" sz="16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1600" spc="-1" strike="noStrike">
                <a:solidFill>
                  <a:srgbClr val="000000"/>
                </a:solidFill>
                <a:latin typeface="Yu Times New Roman"/>
              </a:rPr>
              <a:t>Током овог периода, мембрански потенцијал је веома близу вредности равнотежног потенцијала за калију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5-7"/>
          <p:cNvPicPr/>
          <p:nvPr/>
        </p:nvPicPr>
        <p:blipFill>
          <a:blip r:embed="rId2"/>
          <a:stretch/>
        </p:blipFill>
        <p:spPr>
          <a:xfrm>
            <a:off x="7620120" y="26668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7620120" y="2666880"/>
            <a:ext cx="1523880" cy="11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8"/>
          <p:cNvGraphicFramePr/>
          <p:nvPr/>
        </p:nvGraphicFramePr>
        <p:xfrm>
          <a:off x="7696080" y="2666880"/>
          <a:ext cx="144792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2666880"/>
                    <a:ext cx="14479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925640" y="304920"/>
            <a:ext cx="531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Yu Times New Roman"/>
              </a:rPr>
              <a:t>РЕ</a:t>
            </a:r>
            <a:r>
              <a:rPr b="1" lang="sr-Latn-CS" sz="2000" spc="-1" strike="noStrike">
                <a:solidFill>
                  <a:srgbClr val="99cc00"/>
                </a:solidFill>
                <a:latin typeface="Yu Times New Roman"/>
              </a:rPr>
              <a:t>ФРАКТОРНИ ПЕРИОДИ</a:t>
            </a:r>
            <a:r>
              <a:rPr b="1" lang="en-US" sz="2000" spc="-1" strike="noStrike">
                <a:solidFill>
                  <a:srgbClr val="99cc00"/>
                </a:solidFill>
                <a:latin typeface="Yu 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 А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псолутни рефракторни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 Релат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ивни рефракторни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refract period sl"/>
          <p:cNvPicPr/>
          <p:nvPr/>
        </p:nvPicPr>
        <p:blipFill>
          <a:blip r:embed="rId1"/>
          <a:stretch/>
        </p:blipFill>
        <p:spPr>
          <a:xfrm>
            <a:off x="1600200" y="2209680"/>
            <a:ext cx="5410080" cy="4395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743200" y="2590920"/>
            <a:ext cx="8380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733920" y="2590920"/>
            <a:ext cx="8380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04920" y="31896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Yu Times New Roman"/>
              </a:rPr>
              <a:t>А</a:t>
            </a:r>
            <a:r>
              <a:rPr b="1" i="1" lang="sr-Latn-CS" sz="2000" spc="-1" strike="noStrike">
                <a:solidFill>
                  <a:srgbClr val="99cc00"/>
                </a:solidFill>
                <a:latin typeface="Yu Times New Roman"/>
              </a:rPr>
              <a:t>псолутни рефракторни</a:t>
            </a:r>
            <a:r>
              <a:rPr b="1" i="1" lang="en-US" sz="2000" spc="-1" strike="noStrike">
                <a:solidFill>
                  <a:srgbClr val="99cc00"/>
                </a:solidFill>
                <a:latin typeface="Yu Times New Roman"/>
              </a:rPr>
              <a:t> период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је период током кога други акциони потенцијал  не може да се изазове без обзира колико јак био стимулус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Овај период се подудара са целим временом трајања акционог потенцијала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најмање за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2/3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трајања акционог потенцијала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refract period sl"/>
          <p:cNvPicPr/>
          <p:nvPr/>
        </p:nvPicPr>
        <p:blipFill>
          <a:blip r:embed="rId1"/>
          <a:stretch/>
        </p:blipFill>
        <p:spPr>
          <a:xfrm>
            <a:off x="1905120" y="1676520"/>
            <a:ext cx="4114800" cy="33433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2666880" y="1752480"/>
            <a:ext cx="762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80880" y="54100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Yu Times New Roman"/>
              </a:rPr>
              <a:t>Присетите се да су инактивациона врата </a:t>
            </a:r>
            <a:r>
              <a:rPr b="0" i="1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Yu Times New Roman"/>
              </a:rPr>
              <a:t>канала затворена током деполаризације мембране</a:t>
            </a:r>
            <a:r>
              <a:rPr b="0" i="1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i="1" lang="sr-Latn-CS" sz="1800" spc="-1" strike="noStrike">
                <a:solidFill>
                  <a:srgbClr val="000000"/>
                </a:solidFill>
                <a:latin typeface="Yu Times New Roman"/>
              </a:rPr>
              <a:t>Она остају затворена све док траје процес реполаризације</a:t>
            </a:r>
            <a:r>
              <a:rPr b="0" i="1" lang="en-US" sz="18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i="1" lang="sr-Latn-CS" sz="1800" spc="-1" strike="noStrike">
                <a:solidFill>
                  <a:srgbClr val="000000"/>
                </a:solidFill>
                <a:latin typeface="Yu Times New Roman"/>
              </a:rPr>
              <a:t>Акциони потенцијал не може да настане све док су инактивациона врата затвор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6880" y="220968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429000" y="220968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refract period sl"/>
          <p:cNvPicPr/>
          <p:nvPr/>
        </p:nvPicPr>
        <p:blipFill>
          <a:blip r:embed="rId1"/>
          <a:stretch/>
        </p:blipFill>
        <p:spPr>
          <a:xfrm>
            <a:off x="1905120" y="1676520"/>
            <a:ext cx="4114800" cy="3343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3429000" y="1905120"/>
            <a:ext cx="8380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03320" y="152280"/>
            <a:ext cx="8812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Yu Times New Roman"/>
              </a:rPr>
              <a:t>Рела</a:t>
            </a:r>
            <a:r>
              <a:rPr b="0" lang="sr-Latn-CS" sz="2000" spc="-1" strike="noStrike">
                <a:solidFill>
                  <a:srgbClr val="99cc00"/>
                </a:solidFill>
                <a:latin typeface="Yu Times New Roman"/>
              </a:rPr>
              <a:t>тивни рефракторни</a:t>
            </a:r>
            <a:r>
              <a:rPr b="0" lang="en-US" sz="2000" spc="-1" strike="noStrike">
                <a:solidFill>
                  <a:srgbClr val="99cc00"/>
                </a:solidFill>
                <a:latin typeface="Yu Times New Roman"/>
              </a:rPr>
              <a:t> период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почиње на крају апсолутног рефракторног периода и наставља се све док се мембрански потенцијал не врати до мировног нивоа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Акциони потенцијал може да се изазове током овог периода једино у случају ако је повећан (више него обично) улазак позитивних јона у ћелију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3429000" y="236232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4267080" y="236232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52280" y="5410080"/>
            <a:ext cx="862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Проводљивост з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је већа него у мировању, мембрански потенцијал је близу равнотежног потенцијала з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због тог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удаљенији од прага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за достизање прага потребан је већи улазак позитивних јона у ћели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822240" y="49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914400" y="1447920"/>
            <a:ext cx="7543800" cy="23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МБРАНСКИ ПОТЕНЦИЈАЛ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Line 4"/>
          <p:cNvSpPr/>
          <p:nvPr/>
        </p:nvSpPr>
        <p:spPr>
          <a:xfrm>
            <a:off x="3505320" y="5410080"/>
            <a:ext cx="19810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725280" y="464832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Yu Times New Roman"/>
              </a:rPr>
              <a:t>+ + +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731040" y="556272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Yu Times New Roman"/>
              </a:rPr>
              <a:t>-  -  - 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3505320" y="5562720"/>
            <a:ext cx="19810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4343400" y="5257800"/>
            <a:ext cx="3049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28600" y="228600"/>
            <a:ext cx="868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99cc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ОМОДА</a:t>
            </a:r>
            <a:r>
              <a:rPr b="0" lang="sr-Latn-CS" sz="1800" spc="-1" strike="noStrike">
                <a:solidFill>
                  <a:srgbClr val="99cc00"/>
                </a:solidFill>
                <a:latin typeface="Arial"/>
              </a:rPr>
              <a:t>ЦИЈА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е јавља 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е вредност потенцијала ћелијске мембране одржава на деполаризационом нивоу тако да праговни потенцијал постоји али без окидања акционог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tired3"/>
          <p:cNvPicPr/>
          <p:nvPr/>
        </p:nvPicPr>
        <p:blipFill>
          <a:blip r:embed="rId1"/>
          <a:stretch/>
        </p:blipFill>
        <p:spPr>
          <a:xfrm>
            <a:off x="2971800" y="1371600"/>
            <a:ext cx="252576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228600" y="5257800"/>
            <a:ext cx="852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комодација може да се демонстрир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х</a:t>
            </a:r>
            <a:r>
              <a:rPr b="1" i="1" lang="sr-Latn-CS" sz="1800" spc="-1" strike="noStrike" u="sng">
                <a:solidFill>
                  <a:srgbClr val="009999"/>
                </a:solidFill>
                <a:uFillTx/>
                <a:latin typeface="Arial"/>
              </a:rPr>
              <a:t>и</a:t>
            </a: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перкалеми</a:t>
            </a:r>
            <a:r>
              <a:rPr b="1" i="1" lang="sr-Latn-CS" sz="1800" spc="-1" strike="noStrike" u="sng">
                <a:solidFill>
                  <a:srgbClr val="009999"/>
                </a:solidFill>
                <a:uFillTx/>
                <a:latin typeface="Arial"/>
              </a:rPr>
              <a:t>ј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када је скелетна мишићна мембрана деполаризова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услед високе концентрације екстрацелуларног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Иако је мембрански потенцијал близу прага, акциони потенцијал се не јавља јер су инактивациона врат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затворена услед деполаризације, што доводи д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м</a:t>
            </a:r>
            <a:r>
              <a:rPr b="1" i="1" lang="sr-Latn-CS" sz="1800" spc="-1" strike="noStrike" u="sng">
                <a:solidFill>
                  <a:srgbClr val="009999"/>
                </a:solidFill>
                <a:uFillTx/>
                <a:latin typeface="Arial"/>
              </a:rPr>
              <a:t>ишићне слабости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5-11"/>
          <p:cNvPicPr/>
          <p:nvPr/>
        </p:nvPicPr>
        <p:blipFill>
          <a:blip r:embed="rId1"/>
          <a:stretch/>
        </p:blipFill>
        <p:spPr>
          <a:xfrm>
            <a:off x="5105520" y="609480"/>
            <a:ext cx="3894120" cy="5470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0" y="20574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Пропага</a:t>
            </a:r>
            <a:r>
              <a:rPr b="0" lang="sr-Latn-CS" sz="1800" spc="-1" strike="noStrike">
                <a:solidFill>
                  <a:srgbClr val="99cc00"/>
                </a:solidFill>
                <a:latin typeface="Arial"/>
              </a:rPr>
              <a:t>ција акционих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стаје када се локално кретање позитивних јона прошири на суседне делове мембране, који се затим деполаризују до праговног потенцијала након чега настају акциони потенциј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5-16"/>
          <p:cNvPicPr/>
          <p:nvPr/>
        </p:nvPicPr>
        <p:blipFill>
          <a:blip r:embed="rId1"/>
          <a:stretch/>
        </p:blipFill>
        <p:spPr>
          <a:xfrm>
            <a:off x="685800" y="3352680"/>
            <a:ext cx="2533680" cy="328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5-17"/>
          <p:cNvPicPr/>
          <p:nvPr/>
        </p:nvPicPr>
        <p:blipFill>
          <a:blip r:embed="rId2"/>
          <a:stretch/>
        </p:blipFill>
        <p:spPr>
          <a:xfrm>
            <a:off x="3809880" y="3352680"/>
            <a:ext cx="4881600" cy="3133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50920" y="1125360"/>
            <a:ext cx="855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рзина провођ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нервним влакнима зависи 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ијаметра влак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ње дијаметра нервног влакна доводи до смањења унутрашњег отп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ако, брзина провођења импулса расте што је влакно дебљ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5-16"/>
          <p:cNvPicPr/>
          <p:nvPr/>
        </p:nvPicPr>
        <p:blipFill>
          <a:blip r:embed="rId1"/>
          <a:stretch/>
        </p:blipFill>
        <p:spPr>
          <a:xfrm>
            <a:off x="685800" y="3352680"/>
            <a:ext cx="2533680" cy="328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5-17"/>
          <p:cNvPicPr/>
          <p:nvPr/>
        </p:nvPicPr>
        <p:blipFill>
          <a:blip r:embed="rId2"/>
          <a:stretch/>
        </p:blipFill>
        <p:spPr>
          <a:xfrm>
            <a:off x="3809880" y="3352680"/>
            <a:ext cx="4881600" cy="3133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324000" y="692280"/>
            <a:ext cx="85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рзина провођ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 нервним влакнима зависи 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  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јелинске овојн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ијелин има улогу изолатора око аксона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ва брзину провођења импулса у нервним влакнима. Мијелинизирана нервна влакна проводе импулсе тзв. салтаторном кондукцијом будући да акциони потенцијали могу да настану само у Ранвијеровим чворовима, местима прекида мијелинске овој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4-2"/>
          <p:cNvPicPr/>
          <p:nvPr/>
        </p:nvPicPr>
        <p:blipFill>
          <a:blip r:embed="rId1"/>
          <a:stretch/>
        </p:blipFill>
        <p:spPr>
          <a:xfrm>
            <a:off x="1371600" y="2286000"/>
            <a:ext cx="6513480" cy="29368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609480" y="762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 u="sng">
                <a:solidFill>
                  <a:srgbClr val="99cc00"/>
                </a:solidFill>
                <a:uFillTx/>
                <a:latin typeface="Yu Times New Roman"/>
              </a:rPr>
              <a:t>ЈОНСКИ КАНАЛИ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су интегрални протеини који се простиру кроз целу мембрану, од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њене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спољашње до унутрашње стране, и када су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Yu Times New Roman"/>
              </a:rPr>
              <a:t>отворени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 омогућавају пролаз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ак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Yu Times New Roman"/>
              </a:rPr>
              <a:t>одређених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 ј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2286000" y="2666880"/>
            <a:ext cx="14479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95280" y="981000"/>
            <a:ext cx="807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Yu Times New Roman"/>
              </a:rPr>
              <a:t>КАРАКТЕРИСТИКЕ ЈОНСКИХ КАНАЛА</a:t>
            </a:r>
            <a:r>
              <a:rPr b="0" lang="en-US" sz="2000" spc="-1" strike="noStrike">
                <a:solidFill>
                  <a:srgbClr val="ffcc00"/>
                </a:solidFill>
                <a:latin typeface="Yu 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Јонски канали су </a:t>
            </a:r>
            <a:r>
              <a:rPr b="1" i="1" lang="en-US" sz="2000" spc="-1" strike="noStrike" u="sng">
                <a:solidFill>
                  <a:srgbClr val="009999"/>
                </a:solidFill>
                <a:uFillTx/>
                <a:latin typeface="Yu Times New Roman"/>
              </a:rPr>
              <a:t>селе</a:t>
            </a:r>
            <a:r>
              <a:rPr b="1" i="1" lang="sr-Latn-CS" sz="2000" spc="-1" strike="noStrike" u="sng">
                <a:solidFill>
                  <a:srgbClr val="009999"/>
                </a:solidFill>
                <a:uFillTx/>
                <a:latin typeface="Yu Times New Roman"/>
              </a:rPr>
              <a:t>ктивни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;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омогућавају пролазак само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одређених јона.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Селе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ктивност се заснива на величини канала и распореду наелектрисања унутар </a:t>
            </a:r>
            <a:r>
              <a:rPr b="0" lang="sr-CS" sz="2000" spc="-1" strike="noStrike">
                <a:solidFill>
                  <a:srgbClr val="000000"/>
                </a:solidFill>
                <a:latin typeface="Yu Times New Roman"/>
              </a:rPr>
              <a:t>њ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их.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Мали канал који је испуњен негативно наелектрисаним групама ће тако бити селективан за мале катјоне и непролазан за велике молекуле и ањоне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ock"/>
          <p:cNvSpPr/>
          <p:nvPr/>
        </p:nvSpPr>
        <p:spPr>
          <a:xfrm>
            <a:off x="5867280" y="4495680"/>
            <a:ext cx="1419480" cy="2014560"/>
          </a:xfrm>
          <a:custGeom>
            <a:avLst/>
            <a:gdLst>
              <a:gd name="textAreaLeft" fmla="*/ 48600 w 1419480"/>
              <a:gd name="textAreaRight" fmla="*/ 1388880 w 1419480"/>
              <a:gd name="textAreaTop" fmla="*/ 923760 h 2014560"/>
              <a:gd name="textAreaBottom" fmla="*/ 1430280 h 20145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252349"/>
          <p:cNvPicPr/>
          <p:nvPr/>
        </p:nvPicPr>
        <p:blipFill>
          <a:blip r:embed="rId1"/>
          <a:stretch/>
        </p:blipFill>
        <p:spPr>
          <a:xfrm>
            <a:off x="1981080" y="4648320"/>
            <a:ext cx="2590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155736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Yu Times New Roman"/>
              </a:rPr>
              <a:t>КАРАКТЕРИСТИКЕ ЈОНСКИХ КАНАЛА</a:t>
            </a:r>
            <a:r>
              <a:rPr b="0" lang="en-US" sz="2000" spc="-1" strike="noStrike">
                <a:solidFill>
                  <a:srgbClr val="ffcc00"/>
                </a:solidFill>
                <a:latin typeface="Yu 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Јонски канали могу бити </a:t>
            </a:r>
            <a:r>
              <a:rPr b="1" i="1" lang="en-US" sz="2000" spc="-1" strike="noStrike" u="sng">
                <a:solidFill>
                  <a:srgbClr val="009999"/>
                </a:solidFill>
                <a:uFillTx/>
                <a:latin typeface="Yu Times New Roman"/>
              </a:rPr>
              <a:t>о</a:t>
            </a:r>
            <a:r>
              <a:rPr b="1" i="1" lang="sr-Latn-CS" sz="2000" spc="-1" strike="noStrike" u="sng">
                <a:solidFill>
                  <a:srgbClr val="009999"/>
                </a:solidFill>
                <a:uFillTx/>
                <a:latin typeface="Yu Times New Roman"/>
              </a:rPr>
              <a:t>творени или затворени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Када је канал отворен тада јони за које је селективан могу да прођу кроз њега. Када је канал затворен, јони не пролазе кроз њега.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ock"/>
          <p:cNvSpPr/>
          <p:nvPr/>
        </p:nvSpPr>
        <p:spPr>
          <a:xfrm>
            <a:off x="5867280" y="4495680"/>
            <a:ext cx="1419480" cy="2014560"/>
          </a:xfrm>
          <a:custGeom>
            <a:avLst/>
            <a:gdLst>
              <a:gd name="textAreaLeft" fmla="*/ 48600 w 1419480"/>
              <a:gd name="textAreaRight" fmla="*/ 1388880 w 1419480"/>
              <a:gd name="textAreaTop" fmla="*/ 923760 h 2014560"/>
              <a:gd name="textAreaBottom" fmla="*/ 1430280 h 20145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j0252349"/>
          <p:cNvPicPr/>
          <p:nvPr/>
        </p:nvPicPr>
        <p:blipFill>
          <a:blip r:embed="rId1"/>
          <a:stretch/>
        </p:blipFill>
        <p:spPr>
          <a:xfrm>
            <a:off x="1981080" y="4648320"/>
            <a:ext cx="2590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73960" y="685800"/>
            <a:ext cx="85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Yu Times New Roman"/>
              </a:rPr>
              <a:t>О</a:t>
            </a:r>
            <a:r>
              <a:rPr b="1" lang="sr-Latn-CS" sz="2000" spc="-1" strike="noStrike">
                <a:solidFill>
                  <a:srgbClr val="009999"/>
                </a:solidFill>
                <a:latin typeface="Yu Times New Roman"/>
              </a:rPr>
              <a:t>ТВАРАЊЕ И ЗАТВАРАЊЕ КАНАЛА ЈЕ КОНТРОЛИСАНО ВРА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280" y="1219320"/>
            <a:ext cx="8991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en-US" sz="2000" spc="-1" strike="noStrike">
                <a:solidFill>
                  <a:srgbClr val="99cc00"/>
                </a:solidFill>
                <a:latin typeface="Yu Times New Roman"/>
              </a:rPr>
              <a:t>Волта</a:t>
            </a:r>
            <a:r>
              <a:rPr b="0" lang="sr-Latn-CS" sz="2000" spc="-1" strike="noStrike">
                <a:solidFill>
                  <a:srgbClr val="99cc00"/>
                </a:solidFill>
                <a:latin typeface="Yu Times New Roman"/>
              </a:rPr>
              <a:t>ж зависни канали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се отварају и затварају у зависности од промена </a:t>
            </a:r>
            <a:r>
              <a:rPr b="0" lang="sr-C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мембранског 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 </a:t>
            </a:r>
            <a:r>
              <a:rPr b="0" lang="en-US" sz="2000" spc="-1" strike="noStrike">
                <a:solidFill>
                  <a:srgbClr val="99cc00"/>
                </a:solidFill>
                <a:latin typeface="Yu Times New Roman"/>
              </a:rPr>
              <a:t>Лиганд </a:t>
            </a:r>
            <a:r>
              <a:rPr b="0" lang="sr-Latn-CS" sz="2000" spc="-1" strike="noStrike">
                <a:solidFill>
                  <a:srgbClr val="99cc00"/>
                </a:solidFill>
                <a:latin typeface="Yu Times New Roman"/>
              </a:rPr>
              <a:t>зависни канали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су отворени или затворени у зависности од присуства специфичног молекула: хормона, других гласника или неуротрансмитера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kapija"/>
          <p:cNvPicPr/>
          <p:nvPr/>
        </p:nvPicPr>
        <p:blipFill>
          <a:blip r:embed="rId1"/>
          <a:stretch/>
        </p:blipFill>
        <p:spPr>
          <a:xfrm>
            <a:off x="1600200" y="3124080"/>
            <a:ext cx="57913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5-7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28600" y="914400"/>
            <a:ext cx="403848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Активациона врат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анала у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нерв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о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тварају деполаризацијом и када су отворен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мембрана нерва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пропустљива з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Инактивациона врат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анала се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затварају деполаризацијом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;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ада 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затворен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мембрана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непропустљива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Врат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амо једн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)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се отварају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деполаризацијом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;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када су отвор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Yu Times New Roman"/>
              </a:rPr>
              <a:t>мембрана је пропустљива за 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ock"/>
          <p:cNvSpPr/>
          <p:nvPr/>
        </p:nvSpPr>
        <p:spPr>
          <a:xfrm>
            <a:off x="914400" y="4876920"/>
            <a:ext cx="1419120" cy="1785960"/>
          </a:xfrm>
          <a:custGeom>
            <a:avLst/>
            <a:gdLst>
              <a:gd name="textAreaLeft" fmla="*/ 48600 w 1419120"/>
              <a:gd name="textAreaRight" fmla="*/ 1388520 w 1419120"/>
              <a:gd name="textAreaTop" fmla="*/ 819000 h 1785960"/>
              <a:gd name="textAreaBottom" fmla="*/ 1267920 h 1785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1320" y="200160"/>
            <a:ext cx="43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Yu Times New Roman"/>
              </a:rPr>
              <a:t>ПРИМЕРИ ВОЛТАЖ </a:t>
            </a:r>
            <a:r>
              <a:rPr b="1" lang="en-US" sz="1600" spc="-1" strike="noStrike">
                <a:solidFill>
                  <a:srgbClr val="000000"/>
                </a:solidFill>
                <a:latin typeface="Yu 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Yu Times New Roman"/>
              </a:rPr>
              <a:t>ЗАВИСНИХ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7848720" y="2286000"/>
            <a:ext cx="7617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077320" y="25146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-3"/>
          <p:cNvPicPr/>
          <p:nvPr/>
        </p:nvPicPr>
        <p:blipFill>
          <a:blip r:embed="rId1"/>
          <a:stretch/>
        </p:blipFill>
        <p:spPr>
          <a:xfrm>
            <a:off x="5059440" y="0"/>
            <a:ext cx="4054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52280" y="685800"/>
            <a:ext cx="4876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Yu Times New Roman"/>
              </a:rPr>
              <a:t>ПРИМЕР ЗА ЛИГАНД ЗАВИСНЕ КАН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Yu 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Никотински рецептор за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ацетилхолин на   моторној завршној у мишићима плочи је јонски канал који се отвара када се ацетилхолин веже за њега. Када је отворен, пропустљив је за 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Yu Times New Roman"/>
              </a:rPr>
              <a:t>+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Yu 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Yu Times New Roman"/>
              </a:rPr>
              <a:t>што доводи до деполаризације моторне завршне плоче</a:t>
            </a:r>
            <a:r>
              <a:rPr b="0" lang="en-US" sz="2000" spc="-1" strike="noStrike">
                <a:solidFill>
                  <a:srgbClr val="000000"/>
                </a:solidFill>
                <a:latin typeface="Yu 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252349"/>
          <p:cNvPicPr/>
          <p:nvPr/>
        </p:nvPicPr>
        <p:blipFill>
          <a:blip r:embed="rId2"/>
          <a:stretch/>
        </p:blipFill>
        <p:spPr>
          <a:xfrm>
            <a:off x="228600" y="4495680"/>
            <a:ext cx="2590920" cy="1576440"/>
          </a:xfrm>
          <a:prstGeom prst="rect">
            <a:avLst/>
          </a:prstGeom>
          <a:ln w="0">
            <a:noFill/>
          </a:ln>
        </p:spPr>
      </p:pic>
      <p:sp>
        <p:nvSpPr>
          <p:cNvPr id="77" name="Lock"/>
          <p:cNvSpPr/>
          <p:nvPr/>
        </p:nvSpPr>
        <p:spPr>
          <a:xfrm>
            <a:off x="3276720" y="4267080"/>
            <a:ext cx="1419120" cy="2014560"/>
          </a:xfrm>
          <a:custGeom>
            <a:avLst/>
            <a:gdLst>
              <a:gd name="textAreaLeft" fmla="*/ 48600 w 1419120"/>
              <a:gd name="textAreaRight" fmla="*/ 1388520 w 1419120"/>
              <a:gd name="textAreaTop" fmla="*/ 923760 h 2014560"/>
              <a:gd name="textAreaBottom" fmla="*/ 1430280 h 20145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0:09:45Z</dcterms:created>
  <dc:creator>User</dc:creator>
  <dc:description/>
  <dc:language>en-US</dc:language>
  <cp:lastModifiedBy>korisnik</cp:lastModifiedBy>
  <dcterms:modified xsi:type="dcterms:W3CDTF">2014-10-01T14:48:25Z</dcterms:modified>
  <cp:revision>76</cp:revision>
  <dc:subject/>
  <dc:title>ФИЗИОЛОГИЈА</dc:title>
</cp:coreProperties>
</file>